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Fayettewood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am certain it is 4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straight lines that will never meet are called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t would be parall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581832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area:  L=10m, W=5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course that is 30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8720" y="5818320"/>
            <a:ext cx="763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 these fractions from least to greatest: ½, ¼, 5/12 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¼, 5/12, 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79132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x N = 72  What is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uess is that N=1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,456 – 1,39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6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think that would be 9,99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a square a rect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720" y="581832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course not, a square is a square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0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6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s to th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12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2 (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90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Parallel (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50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1/4, 5/12, ½ (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12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10057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Yes (disa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LCM of 4 and 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think it is 2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GCF of 18 and 2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uess would be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obtuse angle is greater than thi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sibel</cp:lastModifiedBy>
  <dcterms:modified xsi:type="dcterms:W3CDTF">2010-03-15T08:27:44Z</dcterms:modified>
  <cp:revision>26</cp:revision>
  <dc:subject/>
  <dc:title>No Slide Title</dc:title>
</cp:coreProperties>
</file>